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wmf" ContentType="image/x-wmf"/>
  <Override PartName="/ppt/media/image13.png" ContentType="image/png"/>
  <Override PartName="/ppt/media/image16.jpeg" ContentType="image/jpeg"/>
  <Override PartName="/ppt/media/image14.png" ContentType="image/png"/>
  <Override PartName="/ppt/media/image15.wmf" ContentType="image/x-wmf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669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DA1A-4CAD-4FB7-830E-65AD0089A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FE01-A68F-4123-AD63-A0D45BD50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DB96-AAA8-4706-8AFD-60826DA88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C1A6-709D-499F-8B4F-9ACCC4E92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9BA8-84CE-4B03-8291-03A721E54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A96A-FD55-4A92-A7E7-3EE996A90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FD8E-0BCA-4A7B-9739-0E98D6E98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6B74-D4BA-4E0B-8AEC-102701D1E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DC91-C856-4F45-AEBF-21090C5CF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04DC-3A79-4489-AA8A-BF40A78A7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2E32-0ABB-4192-8263-BD9DAB733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7F41-ED0F-4092-BA77-C8EC3CE34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5929C-1A19-4A86-B108-FD61A58FAF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228600"/>
            <a:ext cx="8839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Verdana"/>
              </a:rPr>
              <a:t>Progetto Orientamento Politecnico</a:t>
            </a:r>
            <a:r>
              <a:rPr b="1" lang="en-US" sz="3000" spc="-1" strike="noStrike">
                <a:solidFill>
                  <a:srgbClr val="ffcc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2514600"/>
            <a:ext cx="8153640" cy="21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Verdana"/>
              </a:rPr>
              <a:t>Una lettura dei dati di genere di Atene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ff"/>
                </a:solidFill>
                <a:latin typeface="Verdana"/>
              </a:rPr>
              <a:t>Emma Angelin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ff"/>
                </a:solidFill>
                <a:latin typeface="Verdana"/>
              </a:rPr>
              <a:t>Dipartimento di Scienza dei Materiali ed Ingegneria Chim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6185600">
            <a:off x="-3152520" y="3142800"/>
            <a:ext cx="6856200" cy="5508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Verdana"/>
              </a:rPr>
              <a:t>LE RADICI DEL FUTUR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6019920"/>
            <a:ext cx="4724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ffcc66"/>
                </a:solidFill>
                <a:latin typeface="Verdana"/>
              </a:rPr>
              <a:t>20 aprile 2004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86040" y="5151600"/>
            <a:ext cx="388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ff"/>
                </a:solidFill>
                <a:latin typeface="Verdana"/>
              </a:rPr>
              <a:t>e-</a:t>
            </a:r>
            <a:r>
              <a:rPr b="1" lang="en-GB" sz="1800" spc="-1" strike="noStrike">
                <a:solidFill>
                  <a:srgbClr val="ff00ff"/>
                </a:solidFill>
                <a:latin typeface="Verdana"/>
              </a:rPr>
              <a:t>mail : emma.angelini@polito.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rot="16185600">
            <a:off x="-3234240" y="3145320"/>
            <a:ext cx="6867360" cy="5508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Verdana"/>
              </a:rPr>
              <a:t>LE RADICI DEL FUTUR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6019920"/>
            <a:ext cx="83059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00"/>
                </a:solidFill>
                <a:latin typeface="Verdana"/>
              </a:rPr>
              <a:t>Progetto Orientamento  POLITECN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9900"/>
                </a:solidFill>
                <a:latin typeface="Verdana"/>
              </a:rPr>
              <a:t>19-20-21 aprile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37080" y="304920"/>
            <a:ext cx="355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Verdana"/>
              </a:rPr>
              <a:t>A.A.2002-2003 - Ingegne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228600" y="1295280"/>
          <a:ext cx="7772400" cy="44960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1295280"/>
                    <a:ext cx="7772400" cy="449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 rot="16185600">
            <a:off x="-3234240" y="3145320"/>
            <a:ext cx="6867360" cy="5508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Verdana"/>
              </a:rPr>
              <a:t>LE RADICI DEL FUTUR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9480" y="6019920"/>
            <a:ext cx="83059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00"/>
                </a:solidFill>
                <a:latin typeface="Verdana"/>
              </a:rPr>
              <a:t>Progetto Orientamento  POLITECN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9900"/>
                </a:solidFill>
                <a:latin typeface="Verdana"/>
              </a:rPr>
              <a:t>19-20-21 aprile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57200" y="380880"/>
            <a:ext cx="8077320" cy="56581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5024880" y="4648320"/>
            <a:ext cx="323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almalaurea.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 rot="16185600">
            <a:off x="-3234240" y="3145320"/>
            <a:ext cx="6867360" cy="5508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Verdana"/>
              </a:rPr>
              <a:t>LE RADICI DEL FUTUR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09480" y="1295280"/>
          <a:ext cx="3513240" cy="4267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1295280"/>
                    <a:ext cx="3513240" cy="4267440"/>
                  </a:xfrm>
                  <a:prstGeom prst="rect">
                    <a:avLst/>
                  </a:prstGeom>
                  <a:ln w="9360">
                    <a:solidFill>
                      <a:srgbClr val="3333cc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609480" y="6019920"/>
            <a:ext cx="83059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00"/>
                </a:solidFill>
                <a:latin typeface="Verdana"/>
              </a:rPr>
              <a:t>Progetto Orientamento  POLITECN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9900"/>
                </a:solidFill>
                <a:latin typeface="Verdana"/>
              </a:rPr>
              <a:t>19-20-21 aprile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343400" y="2057400"/>
            <a:ext cx="4572000" cy="45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Verdana"/>
              </a:rPr>
              <a:t>Profili dei laurea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Verdana"/>
              </a:rPr>
              <a:t>Per Ateneo – Politecn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Verdana"/>
              </a:rPr>
              <a:t>Per Facoltà – Ingegne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Verdana"/>
              </a:rPr>
              <a:t>Per Facoltà - Complessiv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ff00"/>
                </a:solidFill>
                <a:latin typeface="Verdana"/>
              </a:rPr>
              <a:t>Molto positivi per la partecipazione femmin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65160" y="380880"/>
            <a:ext cx="467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Verdana"/>
              </a:rPr>
              <a:t>Dati di AlmaLaurea Anno 2002-20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 rot="16185600">
            <a:off x="-3234240" y="3145320"/>
            <a:ext cx="6867360" cy="5508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Verdana"/>
              </a:rPr>
              <a:t>LE RADICI DEL FUTUR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9480" y="6019920"/>
            <a:ext cx="83059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00"/>
                </a:solidFill>
                <a:latin typeface="Verdana"/>
              </a:rPr>
              <a:t>Progetto Orientamento  POLITECN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9900"/>
                </a:solidFill>
                <a:latin typeface="Verdana"/>
              </a:rPr>
              <a:t>19-20-21 aprile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5181480" y="3962520"/>
            <a:ext cx="762120" cy="114300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 rot="16185600">
            <a:off x="-3234240" y="3145320"/>
            <a:ext cx="6867360" cy="5508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Verdana"/>
              </a:rPr>
              <a:t>LE RADICI DEL FUTUR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9480" y="6019920"/>
            <a:ext cx="83059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00"/>
                </a:solidFill>
                <a:latin typeface="Verdana"/>
              </a:rPr>
              <a:t>Progetto Orientamento  POLITECN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9900"/>
                </a:solidFill>
                <a:latin typeface="Verdana"/>
              </a:rPr>
              <a:t>19-20-21 aprile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57200" y="285840"/>
            <a:ext cx="8686800" cy="65149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5334120" y="2590920"/>
            <a:ext cx="761760" cy="114300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 rot="16185600">
            <a:off x="-3234240" y="3145320"/>
            <a:ext cx="6867360" cy="5508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Verdana"/>
              </a:rPr>
              <a:t>LE RADICI DEL FUTUR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09480" y="6019920"/>
            <a:ext cx="83059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00"/>
                </a:solidFill>
                <a:latin typeface="Verdana"/>
              </a:rPr>
              <a:t>Progetto Orientamento  POLITECN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9900"/>
                </a:solidFill>
                <a:latin typeface="Verdana"/>
              </a:rPr>
              <a:t>19-20-21 aprile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5181480" y="2209680"/>
            <a:ext cx="762120" cy="137160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 rot="16185600">
            <a:off x="-3234240" y="3145320"/>
            <a:ext cx="6867360" cy="5508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Verdana"/>
              </a:rPr>
              <a:t>LE RADICI DEL FUTUR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9480" y="6019920"/>
            <a:ext cx="83059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00"/>
                </a:solidFill>
                <a:latin typeface="Verdana"/>
              </a:rPr>
              <a:t>Progetto Orientamento  POLITECN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9900"/>
                </a:solidFill>
                <a:latin typeface="Verdana"/>
              </a:rPr>
              <a:t>19-20-21 aprile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533520" y="152280"/>
            <a:ext cx="8610480" cy="64580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5410080" y="1676520"/>
            <a:ext cx="762120" cy="17524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 rot="16185600">
            <a:off x="-3234240" y="3145320"/>
            <a:ext cx="6867360" cy="5508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Verdana"/>
              </a:rPr>
              <a:t>LE RADICI DEL FUTUR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9480" y="6019920"/>
            <a:ext cx="83059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00"/>
                </a:solidFill>
                <a:latin typeface="Verdana"/>
              </a:rPr>
              <a:t>Progetto Orientamento  POLITECN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9900"/>
                </a:solidFill>
                <a:latin typeface="Verdana"/>
              </a:rPr>
              <a:t>19-20-21 aprile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533520" y="878040"/>
          <a:ext cx="8610480" cy="49798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878040"/>
                    <a:ext cx="8610480" cy="497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965160" y="380880"/>
            <a:ext cx="467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Verdana"/>
              </a:rPr>
              <a:t>Dati di AlmaLaurea Anno 2002-20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 rot="16185600">
            <a:off x="-3234240" y="3145320"/>
            <a:ext cx="6867360" cy="5508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Verdana"/>
              </a:rPr>
              <a:t>LE RADICI DEL FUTUR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09480" y="6019920"/>
            <a:ext cx="83059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00"/>
                </a:solidFill>
                <a:latin typeface="Verdana"/>
              </a:rPr>
              <a:t>Progetto Orientamento  POLITECN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9900"/>
                </a:solidFill>
                <a:latin typeface="Verdana"/>
              </a:rPr>
              <a:t>19-20-21 aprile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man_woman_ev" descr=""/>
          <p:cNvPicPr/>
          <p:nvPr/>
        </p:nvPicPr>
        <p:blipFill>
          <a:blip r:embed="rId2"/>
          <a:stretch/>
        </p:blipFill>
        <p:spPr>
          <a:xfrm>
            <a:off x="685800" y="1371600"/>
            <a:ext cx="7086600" cy="44337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966240" y="304920"/>
            <a:ext cx="552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Verdana"/>
              </a:rPr>
              <a:t>Coraggio perchè qualcosa è cambiato……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6185600">
            <a:off x="-3152520" y="3142800"/>
            <a:ext cx="6856200" cy="5508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Verdana"/>
              </a:rPr>
              <a:t>LE RADICI DEL FUTUR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ai" descr=""/>
          <p:cNvPicPr/>
          <p:nvPr/>
        </p:nvPicPr>
        <p:blipFill>
          <a:blip r:embed="rId2"/>
          <a:stretch/>
        </p:blipFill>
        <p:spPr>
          <a:xfrm>
            <a:off x="609480" y="1447920"/>
            <a:ext cx="3461040" cy="4343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038480" y="990720"/>
            <a:ext cx="4562640" cy="51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7160" indent="-227160">
              <a:lnSpc>
                <a:spcPct val="100000"/>
              </a:lnSpc>
              <a:spcBef>
                <a:spcPts val="1250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Verdana"/>
              </a:rPr>
              <a:t>1975 :  </a:t>
            </a:r>
            <a:r>
              <a:rPr b="1" i="1" lang="en-GB" sz="2000" spc="-1" strike="noStrike">
                <a:solidFill>
                  <a:srgbClr val="cc0066"/>
                </a:solidFill>
                <a:latin typeface="Verdana"/>
              </a:rPr>
              <a:t>Laurea in Chimica</a:t>
            </a:r>
            <a:r>
              <a:rPr b="1" i="1" lang="en-GB" sz="2000" spc="-1" strike="noStrike">
                <a:solidFill>
                  <a:srgbClr val="ff0066"/>
                </a:solidFill>
                <a:latin typeface="Verdana"/>
              </a:rPr>
              <a:t>  </a:t>
            </a:r>
            <a:r>
              <a:rPr b="1" lang="en-GB" sz="2000" spc="-1" strike="noStrike">
                <a:solidFill>
                  <a:srgbClr val="ff0066"/>
                </a:solidFill>
                <a:latin typeface="Verdana"/>
              </a:rPr>
              <a:t>Università di Tori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Verdana"/>
              </a:rPr>
              <a:t>dal 1976 a tutt’oggi in servizio presso il  Politecnico di  Torino (Dipartimento di Scienza dei Materiali ed Ingegneria Chimic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Verdana"/>
              </a:rPr>
              <a:t>tuttora </a:t>
            </a:r>
            <a:r>
              <a:rPr b="1" i="1" lang="en-GB" sz="2000" spc="-1" strike="noStrike">
                <a:solidFill>
                  <a:srgbClr val="cc0000"/>
                </a:solidFill>
                <a:latin typeface="Verdana"/>
              </a:rPr>
              <a:t>Professore di Chimica Fisica Applicata</a:t>
            </a:r>
            <a:r>
              <a:rPr b="1" lang="en-GB" sz="2000" spc="-1" strike="noStrike">
                <a:solidFill>
                  <a:srgbClr val="ff3300"/>
                </a:solidFill>
                <a:latin typeface="Verdana"/>
              </a:rPr>
              <a:t>  presso la III Facoltà di Ingegneria  del Politecnico di Torino</a:t>
            </a:r>
            <a:r>
              <a:rPr b="1" lang="en-GB" sz="2000" spc="-1" strike="noStrike">
                <a:solidFill>
                  <a:srgbClr val="3333cc"/>
                </a:solidFill>
                <a:latin typeface="Verdana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92000" y="228600"/>
            <a:ext cx="2652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0000"/>
                </a:solidFill>
                <a:latin typeface="Verdana"/>
              </a:rPr>
              <a:t>Breve storia….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33520" y="5867280"/>
            <a:ext cx="8305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00"/>
                </a:solidFill>
                <a:latin typeface="Verdana"/>
              </a:rPr>
              <a:t>Progetto Orientamento  POLITECN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9900"/>
                </a:solidFill>
                <a:latin typeface="Verdana"/>
              </a:rPr>
              <a:t>19-20-21 aprile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 rot="16185600">
            <a:off x="-3152520" y="3142800"/>
            <a:ext cx="6856200" cy="5508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Verdana"/>
              </a:rPr>
              <a:t>LE RADICI DEL FUTUR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6248520" y="990720"/>
          <a:ext cx="2112840" cy="1788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248520" y="990720"/>
                    <a:ext cx="2112840" cy="178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"/>
          <p:cNvSpPr/>
          <p:nvPr/>
        </p:nvSpPr>
        <p:spPr>
          <a:xfrm>
            <a:off x="609480" y="990720"/>
            <a:ext cx="541044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Verdana"/>
              </a:rPr>
              <a:t>Dipartimento di Scienza dei Materiali ed Ingegneria Chim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Verdana"/>
              </a:rPr>
              <a:t>POLITECNICO DI TORINO, </a:t>
            </a:r>
            <a:r>
              <a:rPr b="0" lang="en-GB" sz="2000" spc="-1" strike="noStrike">
                <a:solidFill>
                  <a:srgbClr val="0033cc"/>
                </a:solidFill>
                <a:latin typeface="Verdana"/>
              </a:rPr>
              <a:t> Corso Duca degli Abruzzi 24, 1029 </a:t>
            </a:r>
            <a:r>
              <a:rPr b="0" lang="en-US" sz="2000" spc="-1" strike="noStrike">
                <a:solidFill>
                  <a:srgbClr val="0033cc"/>
                </a:solidFill>
                <a:latin typeface="Verdana"/>
              </a:rPr>
              <a:t>Tori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520" y="3733920"/>
            <a:ext cx="8381880" cy="19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Verdana"/>
              </a:rPr>
              <a:t>62</a:t>
            </a:r>
            <a:r>
              <a:rPr b="1" lang="en-GB" sz="2000" spc="-1" strike="noStrike">
                <a:solidFill>
                  <a:srgbClr val="ffff00"/>
                </a:solidFill>
                <a:latin typeface="Verdana"/>
              </a:rPr>
              <a:t>   </a:t>
            </a:r>
            <a:r>
              <a:rPr b="1" lang="en-GB" sz="2000" spc="-1" strike="noStrike">
                <a:solidFill>
                  <a:srgbClr val="3333cc"/>
                </a:solidFill>
                <a:latin typeface="Verdana"/>
              </a:rPr>
              <a:t>Personale docente</a:t>
            </a:r>
            <a:r>
              <a:rPr b="1" lang="en-GB" sz="20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Verdana"/>
              </a:rPr>
              <a:t>19</a:t>
            </a:r>
            <a:r>
              <a:rPr b="1" lang="en-GB" sz="2000" spc="-1" strike="noStrike">
                <a:solidFill>
                  <a:srgbClr val="ffff00"/>
                </a:solidFill>
                <a:latin typeface="Verdana"/>
              </a:rPr>
              <a:t>   </a:t>
            </a:r>
            <a:r>
              <a:rPr b="1" lang="en-GB" sz="2000" spc="-1" strike="noStrike">
                <a:solidFill>
                  <a:srgbClr val="3333cc"/>
                </a:solidFill>
                <a:latin typeface="Verdana"/>
              </a:rPr>
              <a:t>Personale amministra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Verdana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Verdana"/>
              </a:rPr>
              <a:t>1</a:t>
            </a:r>
            <a:r>
              <a:rPr b="1" lang="en-GB" sz="2000" spc="-1" strike="noStrike">
                <a:solidFill>
                  <a:srgbClr val="ffff00"/>
                </a:solidFill>
                <a:latin typeface="Verdana"/>
              </a:rPr>
              <a:t>   </a:t>
            </a:r>
            <a:r>
              <a:rPr b="1" lang="en-GB" sz="2000" spc="-1" strike="noStrike">
                <a:solidFill>
                  <a:srgbClr val="3333cc"/>
                </a:solidFill>
                <a:latin typeface="Verdana"/>
              </a:rPr>
              <a:t>biblioteca (10.600 testi, 500 periodici, 1.300 tes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Verdana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Verdana"/>
              </a:rPr>
              <a:t>7</a:t>
            </a: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    </a:t>
            </a:r>
            <a:r>
              <a:rPr b="1" lang="en-GB" sz="2000" spc="-1" strike="noStrike">
                <a:solidFill>
                  <a:srgbClr val="3333cc"/>
                </a:solidFill>
                <a:latin typeface="Verdana"/>
              </a:rPr>
              <a:t>laboratori (chimica, scienza dei materiali, …</a:t>
            </a:r>
            <a:r>
              <a:rPr b="0" lang="en-GB" sz="20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91640" y="3200400"/>
            <a:ext cx="124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339933"/>
                </a:solidFill>
                <a:latin typeface="Verdana"/>
              </a:rPr>
              <a:t>In cifre</a:t>
            </a:r>
            <a:r>
              <a:rPr b="0" lang="en-US" sz="2200" spc="-1" strike="noStrike">
                <a:solidFill>
                  <a:srgbClr val="339933"/>
                </a:solidFill>
                <a:latin typeface="Verdana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5867280"/>
            <a:ext cx="8305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00"/>
                </a:solidFill>
                <a:latin typeface="Verdana"/>
              </a:rPr>
              <a:t>Progetto Orientamento  POLITECN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9900"/>
                </a:solidFill>
                <a:latin typeface="Verdana"/>
              </a:rPr>
              <a:t>19-20-21 aprile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 rot="16185600">
            <a:off x="-3152520" y="3142800"/>
            <a:ext cx="6856200" cy="5508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Verdana"/>
              </a:rPr>
              <a:t>LE RADICI DEL FUTUR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85960" y="304920"/>
            <a:ext cx="4598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ff"/>
                </a:solidFill>
                <a:latin typeface="Verdana"/>
              </a:rPr>
              <a:t>Tematiche di ricerca del grupp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90720" y="3276720"/>
            <a:ext cx="7619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Verdana"/>
              </a:rPr>
              <a:t>Biomateriali</a:t>
            </a:r>
            <a:r>
              <a:rPr b="0" lang="en-US" sz="2200" spc="-1" strike="noStrike">
                <a:solidFill>
                  <a:srgbClr val="3333cc"/>
                </a:solidFill>
                <a:latin typeface="Verdana"/>
              </a:rPr>
              <a:t>: studi sui materiali dentali in ambienti simulanti il cavo orale;  valutazione della resistenza alla corrosione e rilascio  ionic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3520" y="5867280"/>
            <a:ext cx="8305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00"/>
                </a:solidFill>
                <a:latin typeface="Verdana"/>
              </a:rPr>
              <a:t>Progetto Orientamento  POLITECN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9900"/>
                </a:solidFill>
                <a:latin typeface="Verdana"/>
              </a:rPr>
              <a:t>19-20-21 aprile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 rot="16185600">
            <a:off x="-3152520" y="3142800"/>
            <a:ext cx="6856200" cy="5508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Verdana"/>
              </a:rPr>
              <a:t>LE RADICI DEL FUTUR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3048120"/>
            <a:ext cx="60195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Verdana"/>
              </a:rPr>
              <a:t>Autenticità delle opere d’ar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09480" y="6019920"/>
            <a:ext cx="83059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00"/>
                </a:solidFill>
                <a:latin typeface="Verdana"/>
              </a:rPr>
              <a:t>Progetto Orientamento  POLITECN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9900"/>
                </a:solidFill>
                <a:latin typeface="Verdana"/>
              </a:rPr>
              <a:t>19-20-21 aprile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230840" y="5276880"/>
            <a:ext cx="184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cc"/>
                </a:solidFill>
                <a:latin typeface="Verdana"/>
              </a:rPr>
              <a:t>Moneta Roma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10720" y="4419720"/>
            <a:ext cx="142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a835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Vero</a:t>
            </a:r>
            <a:r>
              <a:rPr b="0" lang="en-US" sz="3600" spc="-1" strike="noStrike">
                <a:solidFill>
                  <a:srgbClr val="ffa835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256760" y="1600200"/>
            <a:ext cx="128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Verdana"/>
              </a:rPr>
              <a:t>Fals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 rot="16185600">
            <a:off x="-3234240" y="3145320"/>
            <a:ext cx="6867360" cy="5508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Verdana"/>
              </a:rPr>
              <a:t>LE RADICI DEL FUTUR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fslab" descr=""/>
          <p:cNvPicPr/>
          <p:nvPr/>
        </p:nvPicPr>
        <p:blipFill>
          <a:blip r:embed="rId2"/>
          <a:stretch/>
        </p:blipFill>
        <p:spPr>
          <a:xfrm>
            <a:off x="838080" y="1981080"/>
            <a:ext cx="2530440" cy="3481560"/>
          </a:xfrm>
          <a:prstGeom prst="rect">
            <a:avLst/>
          </a:prstGeom>
          <a:ln w="38160">
            <a:solidFill>
              <a:srgbClr val="003366"/>
            </a:solidFill>
            <a:miter/>
          </a:ln>
        </p:spPr>
      </p:pic>
      <p:sp>
        <p:nvSpPr>
          <p:cNvPr id="70" name=""/>
          <p:cNvSpPr/>
          <p:nvPr/>
        </p:nvSpPr>
        <p:spPr>
          <a:xfrm>
            <a:off x="609480" y="6019920"/>
            <a:ext cx="83059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00"/>
                </a:solidFill>
                <a:latin typeface="Verdana"/>
              </a:rPr>
              <a:t>Progetto Orientamento  POLITECN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9900"/>
                </a:solidFill>
                <a:latin typeface="Verdana"/>
              </a:rPr>
              <a:t>19-20-21 aprile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35080" y="304920"/>
            <a:ext cx="631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Verdana"/>
              </a:rPr>
              <a:t>CHIMICA 2003 - III Facoltà  Settore Informa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581280" y="1752480"/>
            <a:ext cx="5189760" cy="39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Verdana"/>
              </a:rPr>
              <a:t>…</a:t>
            </a:r>
            <a:r>
              <a:rPr b="1" lang="en-GB" sz="2000" spc="-1" strike="noStrike">
                <a:solidFill>
                  <a:srgbClr val="ff6600"/>
                </a:solidFill>
                <a:latin typeface="Verdana"/>
              </a:rPr>
              <a:t>dal 1985 corsi di Chimica presso la III Facoltà di Ingegneria  del Politecnico di Torino –Settore dell’Informa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Verdana"/>
              </a:rPr>
              <a:t>Ingegneria Elettron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Verdana"/>
              </a:rPr>
              <a:t>Ingegneria Informat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Verdana"/>
              </a:rPr>
              <a:t>Telecomunicazi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Verdana"/>
              </a:rPr>
              <a:t>Ingegneria Elettr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 rot="16185600">
            <a:off x="-3234240" y="3145320"/>
            <a:ext cx="6867360" cy="5508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Verdana"/>
              </a:rPr>
              <a:t>LE RADICI DEL FUTUR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6019920"/>
            <a:ext cx="83059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00"/>
                </a:solidFill>
                <a:latin typeface="Verdana"/>
              </a:rPr>
              <a:t>Progetto Orientamento  POLITECN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9900"/>
                </a:solidFill>
                <a:latin typeface="Verdana"/>
              </a:rPr>
              <a:t>19-20-21 aprile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134720" y="380880"/>
            <a:ext cx="638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Verdana"/>
              </a:rPr>
              <a:t>CHIMICA 2003 - III Facoltà  Settore Informazio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609480" y="838080"/>
          <a:ext cx="8153640" cy="50292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838080"/>
                    <a:ext cx="815364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 rot="16185600">
            <a:off x="-3234240" y="3145320"/>
            <a:ext cx="6867360" cy="5508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Verdana"/>
              </a:rPr>
              <a:t>LE RADICI DEL FUTUR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09480" y="6019920"/>
            <a:ext cx="83059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00"/>
                </a:solidFill>
                <a:latin typeface="Verdana"/>
              </a:rPr>
              <a:t>Progetto Orientamento  POLITECN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9900"/>
                </a:solidFill>
                <a:latin typeface="Verdana"/>
              </a:rPr>
              <a:t>19-20-21 aprile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0" y="1219320"/>
          <a:ext cx="7848720" cy="4538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219320"/>
                    <a:ext cx="7848720" cy="453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1013040" y="304920"/>
            <a:ext cx="355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Verdana"/>
              </a:rPr>
              <a:t>A.A.2002-2003 - Ingegne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 rot="16185600">
            <a:off x="-3234240" y="3145320"/>
            <a:ext cx="6867360" cy="5508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Verdana"/>
              </a:rPr>
              <a:t>LE RADICI DEL FUTUR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09480" y="6019920"/>
            <a:ext cx="83059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00"/>
                </a:solidFill>
                <a:latin typeface="Verdana"/>
              </a:rPr>
              <a:t>Progetto Orientamento  POLITECN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9900"/>
                </a:solidFill>
                <a:latin typeface="Verdana"/>
              </a:rPr>
              <a:t>19-20-21 aprile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0" y="990720"/>
          <a:ext cx="8381880" cy="48481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990720"/>
                    <a:ext cx="8381880" cy="48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937080" y="304920"/>
            <a:ext cx="355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Verdana"/>
              </a:rPr>
              <a:t>A.A.2002-2003 - Ingegne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5T14:55:39Z</dcterms:created>
  <dc:creator>Polito ammin</dc:creator>
  <dc:description/>
  <dc:language>en-US</dc:language>
  <cp:lastModifiedBy>ROBALDOI</cp:lastModifiedBy>
  <cp:lastPrinted>2004-04-05T15:18:29Z</cp:lastPrinted>
  <dcterms:modified xsi:type="dcterms:W3CDTF">2004-05-07T12:35:26Z</dcterms:modified>
  <cp:revision>18</cp:revision>
  <dc:subject/>
  <dc:title>Nessun titolo diapositiva</dc:title>
</cp:coreProperties>
</file>