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7C3-1747-4354-9ABC-4727B32B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C7C-5AA9-4ACE-B306-863F7D2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313-9684-4C78-8C62-DA6B8ACD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93A-8850-4BD3-8555-7BB523E5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7CB-B3AA-40D1-8777-98E615B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54D-E072-4BD3-9E6B-464E1EC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C3E-B0B2-4AC3-A9F4-4727BC0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CF4-D403-4759-A781-9F271A54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E92-D290-4029-A339-21076DDE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058-E8B7-402B-8FC5-4BDDF76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3F3-259C-4A0F-A037-0D1E2B6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3F5-F12E-4731-889F-47C1BF3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0A8B-482B-4A18-8A3D-BA900E5AA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83908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Anteprima Politecnic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ffcc00"/>
                </a:solidFill>
                <a:latin typeface="Verdana"/>
              </a:rPr>
              <a:t>04-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815328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LA PARI OPPORTUNITA’ NELLE CARRIERE SCIENTIFIC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Piero Dell’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C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19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er conclud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en-GB" sz="2200" spc="-1" strike="noStrike">
                <a:solidFill>
                  <a:srgbClr val="6699ff"/>
                </a:solidFill>
                <a:latin typeface="Verdana"/>
              </a:rPr>
              <a:t>Il rapporto Etan della Commissione Europea sulle donne nella scienza evidenzia la sotto-rappresentazione del genere femminile e sottolinea che questo fenomeno compremette il raggiungimento dell’eccellenza nel lavoro scientifico, rappresenta uno spreco in termini di capacita’ professionali, oltre ad una palese violazione del diritto di tutti, uomini e donne, di essere valutato e considerato per il proprio lavoro e non per la propria appartenenza di genere (Osborn 200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 dati e il ge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Ancor oggi nel mon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scientifico l’analisi del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pari opportunità 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dunque della situ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delle donne è resa diffic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dalla scarsa atten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finora prestata a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realizzazione di un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raccol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di dati confrontabil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in chiave di gene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2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Scelte scientifiche per le d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I dati sugli studi universitar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ci dicono che 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donne -  malgra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i profondi mutamenti in atto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continuano a fare scel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formative maggiorm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orientate verso i corsi umanistici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tale tendenz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è comunque 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forte cambi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21156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nutilmente meravigli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Le studentesse universitar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sono più determin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e più brave degli uomini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abbandonano meno spesso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gli studi ( 10.3% contro il 15.4%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si laureano più spess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nei  termini (10.6% versus 9%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conseguendo anch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votazione mass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con maggiore frequenz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(26.9% versus 17,7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1636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nutilmente meravigli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Tuttavia i loro successi accademici non sono adeguatamente ricompensati nel mercato del lavoro, infat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80010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soffitto di crista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Verdana"/>
              <a:buChar char="•"/>
              <a:tabLst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Più si sale nella carri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più scompare la compone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femmin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Verdana"/>
              <a:buChar char="•"/>
              <a:tabLst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I rapporti di potere e d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prestigio sono ge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unbala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Verdana"/>
              <a:buChar char="•"/>
              <a:tabLst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Alto tasso d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femminilizzaz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alla base che decres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salendo nella sca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organizzativ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it-IT" sz="2200" spc="-1" strike="noStrike">
                <a:solidFill>
                  <a:srgbClr val="6699ff"/>
                </a:solidFill>
                <a:latin typeface="Verdana"/>
              </a:rPr>
              <a:t>Fino ad arrivare 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Soffitto di Crista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>
            <a:alphaModFix amt="37000"/>
          </a:blip>
          <a:stretch/>
        </p:blipFill>
        <p:spPr>
          <a:xfrm>
            <a:off x="4876920" y="1143000"/>
            <a:ext cx="3744720" cy="4513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soffitto di crista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Il </a:t>
            </a:r>
            <a:r>
              <a:rPr b="1" i="1" lang="en-US" sz="2200" spc="-1" strike="noStrike" u="sng">
                <a:solidFill>
                  <a:srgbClr val="6699ff"/>
                </a:solidFill>
                <a:uFillTx/>
                <a:latin typeface="Verdana"/>
              </a:rPr>
              <a:t>Soffitto di Cristallo</a:t>
            </a: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  quell’ostacolo invisibile ma difficilmente superabile che tante ricercatrici sperimentano quotidianamente nella loro vita, spesso senza avere idea chiara di cosa si tratti e che le tiene lontane da un percorso di carriera fisiologico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La cosiddetta forb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La forbice nelle carriere un fenomeno costante misurabile statisticamen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6699ff"/>
                </a:solidFill>
                <a:latin typeface="Verdana"/>
              </a:rPr>
              <a:t>al crescere del livello, dell’importanza attribuita alla posizione, del salario le donne diminuiscono sensibilmente fino ad arrivare ad essere in alcune discipline ed enti una minoranza trascurabile</a:t>
            </a:r>
            <a:r>
              <a:rPr b="0" lang="en-US" sz="2200" spc="-1" strike="noStrike">
                <a:solidFill>
                  <a:srgbClr val="6699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0"/>
            <a:ext cx="883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La rincorsa impossib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Caratterizza le scien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 “</a:t>
            </a: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dure” e consis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in un’impossibilita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per le donne d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riguadagnare lo svantagg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iniziale dato da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loro minoranz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0" lang="en-GB" sz="2200" spc="-1" strike="noStrike">
                <a:solidFill>
                  <a:srgbClr val="6699ff"/>
                </a:solidFill>
                <a:latin typeface="Verdana"/>
              </a:rPr>
              <a:t>numerica a livello form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745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5:39Z</dcterms:created>
  <dc:creator>Polito ammin</dc:creator>
  <dc:description/>
  <dc:language>en-US</dc:language>
  <cp:lastModifiedBy>ROBALDOI</cp:lastModifiedBy>
  <cp:lastPrinted>2004-04-05T15:18:29Z</cp:lastPrinted>
  <dcterms:modified xsi:type="dcterms:W3CDTF">2004-04-20T07:47:03Z</dcterms:modified>
  <cp:revision>20</cp:revision>
  <dc:subject/>
  <dc:title>Nessun titolo diapositiva</dc:title>
</cp:coreProperties>
</file>